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1E2-8673-44AF-A476-DA1E2B61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D25-6C3C-4816-AE47-7E7F2387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CD5-0A87-4A6F-8517-75DB92F5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284-F4E5-4B40-83E6-82479A76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7F4-3B74-40C5-B0DC-CF0E923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258-96A1-4DB4-BBBA-95AF6B28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666-5AF0-43F3-97F4-C38536A1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B42-0D2F-4AB0-B4BC-629B3FED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8DF-6380-4885-97AE-7868AD80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995-28FE-48C0-8729-04A4EE2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C1A-9022-46D5-BE33-E11680E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2EE-8ADF-4589-ACE2-2E17B0C7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367F-0121-4FBB-B96D-E182D667F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ED4-C9D4-40E4-9B56-05AA4D9F0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on the third nest 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315200" y="6324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ENRI10L-2009100712_HWRFx-HFIP-DEMO_wind-swath.gif"/>
          <p:cNvPicPr/>
          <p:nvPr/>
        </p:nvPicPr>
        <p:blipFill>
          <a:blip r:embed="rId1"/>
          <a:srcRect l="14400" t="4800" r="9600" b="8000"/>
          <a:stretch/>
        </p:blipFill>
        <p:spPr>
          <a:xfrm>
            <a:off x="609480" y="162000"/>
            <a:ext cx="2606760" cy="22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ENRI10L-2009100800_HWRFx-HFIP-DEMO_wind-swath.gif"/>
          <p:cNvPicPr/>
          <p:nvPr/>
        </p:nvPicPr>
        <p:blipFill>
          <a:blip r:embed="rId2"/>
          <a:srcRect l="14400" t="4800" r="9600" b="8000"/>
          <a:stretch/>
        </p:blipFill>
        <p:spPr>
          <a:xfrm>
            <a:off x="3276720" y="162000"/>
            <a:ext cx="2606400" cy="22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ENRI10L-2009100812_HWRFx-HFIP-DEMO_wind-swath.gif"/>
          <p:cNvPicPr/>
          <p:nvPr/>
        </p:nvPicPr>
        <p:blipFill>
          <a:blip r:embed="rId3"/>
          <a:srcRect l="14400" t="4800" r="9600" b="8000"/>
          <a:stretch/>
        </p:blipFill>
        <p:spPr>
          <a:xfrm>
            <a:off x="5973840" y="149400"/>
            <a:ext cx="2604960" cy="224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ENRI10L-2009100712_WRF-DEMO_wind-swath.gif"/>
          <p:cNvPicPr/>
          <p:nvPr/>
        </p:nvPicPr>
        <p:blipFill>
          <a:blip r:embed="rId4"/>
          <a:srcRect l="14400" t="9600" r="9600" b="8000"/>
          <a:stretch/>
        </p:blipFill>
        <p:spPr>
          <a:xfrm>
            <a:off x="609480" y="2417760"/>
            <a:ext cx="2606760" cy="2119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ENRI10L-2009100800_WRF-DEMO_wind-swath.gif"/>
          <p:cNvPicPr/>
          <p:nvPr/>
        </p:nvPicPr>
        <p:blipFill>
          <a:blip r:embed="rId5"/>
          <a:srcRect l="14400" t="9600" r="9600" b="8000"/>
          <a:stretch/>
        </p:blipFill>
        <p:spPr>
          <a:xfrm>
            <a:off x="3276720" y="2417760"/>
            <a:ext cx="2606400" cy="21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ENRI10L-2009100812_WRF-DEMO_wind-swath.gif"/>
          <p:cNvPicPr/>
          <p:nvPr/>
        </p:nvPicPr>
        <p:blipFill>
          <a:blip r:embed="rId6"/>
          <a:srcRect l="14400" t="9600" r="9600" b="8000"/>
          <a:stretch/>
        </p:blipFill>
        <p:spPr>
          <a:xfrm>
            <a:off x="5973840" y="2408400"/>
            <a:ext cx="2604960" cy="211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ENRI10L-2009100712_WRF-DEMO-NEW_wind-swath.gif"/>
          <p:cNvPicPr/>
          <p:nvPr/>
        </p:nvPicPr>
        <p:blipFill>
          <a:blip r:embed="rId7"/>
          <a:srcRect l="14400" t="9600" r="9600" b="4800"/>
          <a:stretch/>
        </p:blipFill>
        <p:spPr>
          <a:xfrm>
            <a:off x="609480" y="4562640"/>
            <a:ext cx="2606760" cy="2199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HENRI10L-2009100800_WRF-DEMO-NEW_wind-swath.gif"/>
          <p:cNvPicPr/>
          <p:nvPr/>
        </p:nvPicPr>
        <p:blipFill>
          <a:blip r:embed="rId8"/>
          <a:srcRect l="14400" t="9600" r="9600" b="4800"/>
          <a:stretch/>
        </p:blipFill>
        <p:spPr>
          <a:xfrm>
            <a:off x="3276720" y="4564080"/>
            <a:ext cx="2606400" cy="220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ENRI10L-2009100812_WRF-DEMO-NEW_wind-swath.gif"/>
          <p:cNvPicPr/>
          <p:nvPr/>
        </p:nvPicPr>
        <p:blipFill>
          <a:blip r:embed="rId9"/>
          <a:srcRect l="14400" t="9600" r="9600" b="4800"/>
          <a:stretch/>
        </p:blipFill>
        <p:spPr>
          <a:xfrm>
            <a:off x="5970600" y="4564080"/>
            <a:ext cx="2604960" cy="2201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7391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1908000" y="9097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75240" y="9144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7318440" y="9144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 rot="16200000">
            <a:off x="-528480" y="122328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oper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 rot="16200000">
            <a:off x="-122400" y="328104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 rot="16200000">
            <a:off x="-112680" y="541440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1:46:35Z</dcterms:created>
  <dc:creator>xzhang</dc:creator>
  <dc:description/>
  <dc:language>en-US</dc:language>
  <cp:lastModifiedBy>Seminar</cp:lastModifiedBy>
  <dcterms:modified xsi:type="dcterms:W3CDTF">2009-10-15T14:44:52Z</dcterms:modified>
  <cp:revision>16</cp:revision>
  <dc:subject/>
  <dc:title>Progress on the third nest  development</dc:title>
</cp:coreProperties>
</file>